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8AD-3924-4D87-BA7D-1D686DCF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3B4E-D833-4988-9D0F-5E78CB17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6E8-DA58-4E3A-8888-CFECA5CD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F29-16CE-4C4D-8EBA-D9BE0654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3982-1432-485F-8544-D8976631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6B1-9E4C-4D32-B366-C26B43FE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F682-DC7F-424B-BEEB-405F3900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AA7-CC62-4969-8957-0076EE44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B0C3-1D9F-40B9-A910-FBDC1B82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6B31-D4AB-490C-9B0D-1CB2B9B1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61F-CBFA-4045-A39A-FEF1169E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231-91D2-438D-A525-8BA7ED6F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BAFD-3D53-45A9-9B16-A237D6EB4696}" type="datetime">
              <a:rPr b="0" lang="pl-PL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informatyka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96E3-88A9-4C4A-83D7-692989391BA9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25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reści multimedialne - kodowanie, przetwarzanie, prezentacja</a:t>
            </a:r>
            <a:br>
              <a:rPr sz="3600"/>
            </a:br>
            <a:br>
              <a:rPr sz="1600"/>
            </a:b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Odtwarzanie treści multimedialn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Andrzej Majkow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C509-14CC-42A9-B37A-E081E3F106C6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az 5" descr="OKLADKA_tresci_multimedialne_kodowanie_przetwarzanie_prezentac kopia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352F-C0A1-4E85-B058-FA0E501EB519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Film: Obsługa programu Scratch - Schol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433440" y="1197000"/>
            <a:ext cx="82771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4539-7BB3-4464-A36A-A85C4303D699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Wsparcie technicz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1" descr=""/>
          <p:cNvPicPr/>
          <p:nvPr/>
        </p:nvPicPr>
        <p:blipFill>
          <a:blip r:embed="rId2"/>
          <a:stretch/>
        </p:blipFill>
        <p:spPr>
          <a:xfrm>
            <a:off x="1389240" y="1052640"/>
            <a:ext cx="63576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516C-9FD8-475F-AC71-0EA19E4B8D8B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Wsparcie techniczne – c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az 1" descr=""/>
          <p:cNvPicPr/>
          <p:nvPr/>
        </p:nvPicPr>
        <p:blipFill>
          <a:blip r:embed="rId2"/>
          <a:stretch/>
        </p:blipFill>
        <p:spPr>
          <a:xfrm>
            <a:off x="901800" y="1197000"/>
            <a:ext cx="7270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27F1-E9D8-4788-B06D-FA0069DE22C9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Wsparcie techniczne – c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raz 1" descr=""/>
          <p:cNvPicPr/>
          <p:nvPr/>
        </p:nvPicPr>
        <p:blipFill>
          <a:blip r:embed="rId2"/>
          <a:stretch/>
        </p:blipFill>
        <p:spPr>
          <a:xfrm>
            <a:off x="1476360" y="987480"/>
            <a:ext cx="597384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B0CC-6346-49BC-A2D5-B85B120A1AEC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Wsparcie techniczne – c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raz 1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5973840" cy="55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0DE3-3E8E-4F92-AC37-5E9FDA8DDB67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Film: Analiza budowy projektu w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711360" y="1484280"/>
            <a:ext cx="77342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Bookman Old Style"/>
              </a:rPr>
              <a:t>Tworzenie projektu wspierającego naukę Fizy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272B-F23B-4C46-A19E-3909F3037FFB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9" name="Symbol zastępczy zawartości 6"/>
          <p:cNvSpPr/>
          <p:nvPr/>
        </p:nvSpPr>
        <p:spPr>
          <a:xfrm>
            <a:off x="480960" y="90792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00"/>
                </a:solidFill>
                <a:latin typeface="Bookman Old Style"/>
              </a:rPr>
              <a:t>czas na ćwicze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00"/>
                </a:solidFill>
                <a:latin typeface="Bookman Old Style"/>
              </a:rPr>
              <a:t>i projekt w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9CE0-3F2E-4352-A1E1-F349805B29D3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ytuł 5"/>
          <p:cNvSpPr/>
          <p:nvPr/>
        </p:nvSpPr>
        <p:spPr>
          <a:xfrm>
            <a:off x="0" y="620640"/>
            <a:ext cx="777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TYTUŁ:</a:t>
            </a:r>
            <a:br>
              <a:rPr sz="2800"/>
            </a:br>
            <a:r>
              <a:rPr b="1" lang="pl-PL" sz="4800" spc="-1" strike="noStrike" baseline="-25000">
                <a:solidFill>
                  <a:srgbClr val="ffffff"/>
                </a:solidFill>
                <a:latin typeface="Bookman Old Style"/>
              </a:rPr>
              <a:t>Mój projek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 baseline="-25000">
                <a:solidFill>
                  <a:srgbClr val="ffffff"/>
                </a:solidFill>
                <a:latin typeface="Bookman Old Style"/>
              </a:rPr>
              <a:t>w języku Scrat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LEKCJA 1: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Tworzenie własnego projektu 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w języku Scratch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Bookman Old Style"/>
              </a:rPr>
              <a:t>AUTOR: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Bookman Old Style"/>
              </a:rPr>
              <a:t>Piotr Kopciał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E079-DFE5-473B-BE9C-71223B58DF05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Bookman Old Style"/>
              </a:rPr>
              <a:t>Od czego zacząć „układanie” projektu w Scrat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35280" y="1484280"/>
            <a:ext cx="6851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man Old Style"/>
              </a:rPr>
              <a:t>Kursy krok-po-kro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man Old Style"/>
              </a:rPr>
              <a:t>Tutoriale on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man Old Style"/>
              </a:rPr>
              <a:t>Wsparcie technicz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1610-FC51-4AA6-846A-97AEAA5970E2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Kursy krok-po-kro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Obraz 1" descr=""/>
          <p:cNvPicPr/>
          <p:nvPr/>
        </p:nvPicPr>
        <p:blipFill>
          <a:blip r:embed="rId3"/>
          <a:stretch/>
        </p:blipFill>
        <p:spPr>
          <a:xfrm>
            <a:off x="1619280" y="1125360"/>
            <a:ext cx="597384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F58E-3488-4FDD-B7AF-B6F7040E224B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Kursy krok-po-kroku –c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Obraz 1" descr=""/>
          <p:cNvPicPr/>
          <p:nvPr/>
        </p:nvPicPr>
        <p:blipFill>
          <a:blip r:embed="rId3"/>
          <a:stretch/>
        </p:blipFill>
        <p:spPr>
          <a:xfrm>
            <a:off x="1258920" y="1197000"/>
            <a:ext cx="6634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27E4-8324-443B-B7D2-4A0937B636B0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Kursy krok-po-kroku –c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Obraz 1" descr=""/>
          <p:cNvPicPr/>
          <p:nvPr/>
        </p:nvPicPr>
        <p:blipFill>
          <a:blip r:embed="rId3"/>
          <a:stretch/>
        </p:blipFill>
        <p:spPr>
          <a:xfrm>
            <a:off x="1255680" y="1252440"/>
            <a:ext cx="6481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E4EE-D423-464C-BD20-3EA7CDA91F99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Kursy krok-po-kroku –c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Obraz 1" descr=""/>
          <p:cNvPicPr/>
          <p:nvPr/>
        </p:nvPicPr>
        <p:blipFill>
          <a:blip r:embed="rId3"/>
          <a:stretch/>
        </p:blipFill>
        <p:spPr>
          <a:xfrm>
            <a:off x="1332000" y="1033560"/>
            <a:ext cx="63691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9C1B-E245-4672-85ED-96A9390CF583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Tutoriale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raz 1" descr=""/>
          <p:cNvPicPr/>
          <p:nvPr/>
        </p:nvPicPr>
        <p:blipFill>
          <a:blip r:embed="rId2"/>
          <a:stretch/>
        </p:blipFill>
        <p:spPr>
          <a:xfrm>
            <a:off x="901800" y="1052640"/>
            <a:ext cx="741528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F6C7-2912-40E1-8687-53DE33392EB3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Tutoriale online – c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1" descr=""/>
          <p:cNvPicPr/>
          <p:nvPr/>
        </p:nvPicPr>
        <p:blipFill>
          <a:blip r:embed="rId2"/>
          <a:stretch/>
        </p:blipFill>
        <p:spPr>
          <a:xfrm>
            <a:off x="1082520" y="1125360"/>
            <a:ext cx="7126560" cy="51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3:15:16Z</dcterms:created>
  <dc:creator>Daniel</dc:creator>
  <dc:description/>
  <dc:language>en-US</dc:language>
  <cp:lastModifiedBy>Marcin</cp:lastModifiedBy>
  <dcterms:modified xsi:type="dcterms:W3CDTF">2014-01-03T16:12:07Z</dcterms:modified>
  <cp:revision>72</cp:revision>
  <dc:subject/>
  <dc:title>Slajd 1</dc:title>
</cp:coreProperties>
</file>